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B8D-CA45-4487-A045-7533DD70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C1E-6DD0-4847-8D27-24F4F0F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B84-38BF-4CA7-8F6E-14557AF8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C77-4F0C-4ED3-B56B-6346908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6B5-B80B-4E78-B6C8-A8B87A9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7D8-12AD-4C2E-A31F-6C69239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A5C-7632-4A5D-91D2-B711ECA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A61-F65E-4503-BDE3-83FF437F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207-6A42-4E1A-B115-E29B800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C83-847F-44B9-AA0B-BD5E22CC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682-10DF-4775-A289-8280E8E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460-5EC7-4B17-9C81-9869C80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6E03-FD12-4996-8349-95B608DD7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3182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095880" y="4572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udad de las A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las Ci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452240" y="525780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tedral y Migu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Valencia-Miguelete at Catedral de Valencia02"/>
          <p:cNvPicPr/>
          <p:nvPr/>
        </p:nvPicPr>
        <p:blipFill>
          <a:blip r:embed="rId2"/>
          <a:stretch/>
        </p:blipFill>
        <p:spPr>
          <a:xfrm>
            <a:off x="5181480" y="2362320"/>
            <a:ext cx="403704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143360" y="6854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rres de Serr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Museo de Bellas Artes Valencia"/>
          <p:cNvPicPr/>
          <p:nvPr/>
        </p:nvPicPr>
        <p:blipFill>
          <a:blip r:embed="rId1"/>
          <a:stretch/>
        </p:blipFill>
        <p:spPr>
          <a:xfrm>
            <a:off x="4952880" y="457200"/>
            <a:ext cx="4038840" cy="20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ardin del Turia"/>
          <p:cNvPicPr/>
          <p:nvPr/>
        </p:nvPicPr>
        <p:blipFill>
          <a:blip r:embed="rId2"/>
          <a:stretch/>
        </p:blipFill>
        <p:spPr>
          <a:xfrm>
            <a:off x="4952880" y="4267080"/>
            <a:ext cx="4038840" cy="2019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927760" y="239868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22840" y="23986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865840" y="26668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eo de Bellas 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095520" y="37339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din del T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Valencia-Torres Serranos02"/>
          <p:cNvPicPr/>
          <p:nvPr/>
        </p:nvPicPr>
        <p:blipFill>
          <a:blip r:embed="rId3"/>
          <a:stretch/>
        </p:blipFill>
        <p:spPr>
          <a:xfrm>
            <a:off x="380880" y="1600200"/>
            <a:ext cx="4167360" cy="502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7720" y="-109368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 Fal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pinot.jpg"/>
          <p:cNvPicPr/>
          <p:nvPr/>
        </p:nvPicPr>
        <p:blipFill>
          <a:blip r:embed="rId1"/>
          <a:stretch/>
        </p:blipFill>
        <p:spPr>
          <a:xfrm>
            <a:off x="304920" y="22860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inotayuntamiento.jpg"/>
          <p:cNvPicPr/>
          <p:nvPr/>
        </p:nvPicPr>
        <p:blipFill>
          <a:blip r:embed="rId2"/>
          <a:stretch/>
        </p:blipFill>
        <p:spPr>
          <a:xfrm>
            <a:off x="4572000" y="3505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9718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Ni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28600" y="518148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nots en sus coroz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la despierta.jpg"/>
          <p:cNvPicPr/>
          <p:nvPr/>
        </p:nvPicPr>
        <p:blipFill>
          <a:blip r:embed="rId1"/>
          <a:stretch/>
        </p:blipFill>
        <p:spPr>
          <a:xfrm>
            <a:off x="0" y="1981080"/>
            <a:ext cx="683244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000000"/>
                </a:solidFill>
                <a:latin typeface="Calibri"/>
              </a:rPr>
              <a:t>La Despert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Cada día del festival, la gente está levantada por bandos de personas tocando instrumentos y haciendo explosiones gr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fallas_despiden.jpg"/>
          <p:cNvPicPr/>
          <p:nvPr/>
        </p:nvPicPr>
        <p:blipFill>
          <a:blip r:embed="rId1"/>
          <a:stretch/>
        </p:blipFill>
        <p:spPr>
          <a:xfrm>
            <a:off x="5950080" y="2514600"/>
            <a:ext cx="319392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lasfallas.jpg"/>
          <p:cNvPicPr/>
          <p:nvPr/>
        </p:nvPicPr>
        <p:blipFill>
          <a:blip r:embed="rId2"/>
          <a:stretch/>
        </p:blipFill>
        <p:spPr>
          <a:xfrm>
            <a:off x="0" y="0"/>
            <a:ext cx="6794640" cy="3746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304920" y="4038480"/>
            <a:ext cx="563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Calibri"/>
              </a:rPr>
              <a:t>La Crem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Calibri"/>
              </a:rPr>
              <a:t>En el último día los fallas (literalmente “torches” en ingles) son encen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400" spc="-1" strike="noStrike">
                <a:solidFill>
                  <a:srgbClr val="000000"/>
                </a:solidFill>
                <a:latin typeface="Calibri"/>
              </a:rPr>
              <a:t>La Toma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tomatinatruck.jpg"/>
          <p:cNvPicPr/>
          <p:nvPr/>
        </p:nvPicPr>
        <p:blipFill>
          <a:blip r:embed="rId1"/>
          <a:stretch/>
        </p:blipFill>
        <p:spPr>
          <a:xfrm>
            <a:off x="5791320" y="380880"/>
            <a:ext cx="2600280" cy="2000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380880" y="3049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Tomatina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curra en el pueblo de Buñol en el último miércoles de Aug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334120" y="35812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Tomates llegan por camión y el echando empieza cuando los cánones de agua dispa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tomatina-2.jpg"/>
          <p:cNvPicPr/>
          <p:nvPr/>
        </p:nvPicPr>
        <p:blipFill>
          <a:blip r:embed="rId2"/>
          <a:stretch/>
        </p:blipFill>
        <p:spPr>
          <a:xfrm>
            <a:off x="0" y="2971800"/>
            <a:ext cx="52563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ella Valenciana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ra 4 person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20 gramos arroz de bom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700 gramos pollo (trocea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00 gramos conejo (trocea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70 gramos garrof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0 gramos judía bl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 cucharadas soperas tomate natural rall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50 gramos judía verde anc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 alcachof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ceite de ol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imentón rojo dulce (moli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00 miligramos hebras de azafr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 ramitas de ro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2000" y="10666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051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proces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var tus manos (siemp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lentar el aceite en la paella (sarté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la carne y dorarla a fuego 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uando está dorada, añadir la verdura (troceada) y rehogarla unos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hacer un hueco en el centro de la pa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tomate al hueco y sofreír lo unos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pimentón, y dejarlo para rehogar un minuto más a fuego su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erter agua hasta casi el borde del sarté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algo de sal, y dejarla cocer 30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(ver la tele, jugar con tus niños, o leer tu libro favori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arr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azafr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ezclar todo uniformam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cerla a fuego muy fuerte durante 7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bajar el fuego casi al mínimo y dejar cocer otros 4 ó 5 minutos má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ro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cerla 3 ó 4 minutos más a fuego muy suave, o si todavía hay demasiado caldo, a fuego 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jarla 5 minutos sin fuego, para repo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brir una botella de tu vino favor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finalmente, disfrutarla con tus familiares y amigos..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padeespana.gif"/>
          <p:cNvPicPr/>
          <p:nvPr/>
        </p:nvPicPr>
        <p:blipFill>
          <a:blip r:embed="rId1"/>
          <a:stretch/>
        </p:blipFill>
        <p:spPr>
          <a:xfrm>
            <a:off x="228600" y="152280"/>
            <a:ext cx="3200400" cy="344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lag thing.png"/>
          <p:cNvPicPr/>
          <p:nvPr/>
        </p:nvPicPr>
        <p:blipFill>
          <a:blip r:embed="rId2"/>
          <a:stretch/>
        </p:blipFill>
        <p:spPr>
          <a:xfrm>
            <a:off x="3581280" y="2133720"/>
            <a:ext cx="5181840" cy="2590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57200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dera de Va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28600" y="3962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 Valencia se hab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last_supperpaellastyle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595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509280" y="53341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en prov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Pep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undado en 189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 especializa en platos de mariscos y pescad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stá al lado de la play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una paella auténtica (para tres) cuesta 35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ersonas famosas lo han visitado (Ernest Hemingway, Orson Welles, Antonio Bandera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valencia restaurante LaPepica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mapadevelencia.jpg"/>
          <p:cNvPicPr/>
          <p:nvPr/>
        </p:nvPicPr>
        <p:blipFill>
          <a:blip r:embed="rId1"/>
          <a:stretch/>
        </p:blipFill>
        <p:spPr>
          <a:xfrm>
            <a:off x="1371600" y="1600200"/>
            <a:ext cx="63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a de Va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04920" y="3808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Valencia era fundado por los Romanos en el año 140 Antes Cr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adiator-crowe.jpg"/>
          <p:cNvPicPr/>
          <p:nvPr/>
        </p:nvPicPr>
        <p:blipFill>
          <a:blip r:embed="rId1"/>
          <a:stretch/>
        </p:blipFill>
        <p:spPr>
          <a:xfrm>
            <a:off x="1219320" y="1600200"/>
            <a:ext cx="547668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2514600" y="5486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Roman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429000" y="152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Valencia era se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la regla de los musulmanes (más o menos) desde 709 DC hasta 1238 DC, cuando era conquistado por los Cristi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thello_MSC2004.jpg"/>
          <p:cNvPicPr/>
          <p:nvPr/>
        </p:nvPicPr>
        <p:blipFill>
          <a:blip r:embed="rId1"/>
          <a:stretch/>
        </p:blipFill>
        <p:spPr>
          <a:xfrm>
            <a:off x="457200" y="990720"/>
            <a:ext cx="2971800" cy="5041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838080" y="6172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Mor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ope.jpg"/>
          <p:cNvPicPr/>
          <p:nvPr/>
        </p:nvPicPr>
        <p:blipFill>
          <a:blip r:embed="rId2"/>
          <a:stretch/>
        </p:blipFill>
        <p:spPr>
          <a:xfrm>
            <a:off x="4495680" y="1911240"/>
            <a:ext cx="2860920" cy="3956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49528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Cristian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380880" y="6094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os siglos XV y XVI era l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edad de oro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para Valencia como era uno de los poderes mejores de la medi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114800" y="25909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Valencia servido como la capital de la república durante la Guerr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80880" y="46483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el verano de 2007, Valencia presentado 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merica’s Cup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g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barco.jpg"/>
          <p:cNvPicPr/>
          <p:nvPr/>
        </p:nvPicPr>
        <p:blipFill>
          <a:blip r:embed="rId1"/>
          <a:stretch/>
        </p:blipFill>
        <p:spPr>
          <a:xfrm>
            <a:off x="1828800" y="609480"/>
            <a:ext cx="57420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38480" y="5257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barco 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umentos Interes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28:14Z</dcterms:created>
  <dc:creator>Michael</dc:creator>
  <dc:description/>
  <dc:language>en-US</dc:language>
  <cp:lastModifiedBy>Michael</cp:lastModifiedBy>
  <dcterms:modified xsi:type="dcterms:W3CDTF">2008-03-11T00:55:53Z</dcterms:modified>
  <cp:revision>26</cp:revision>
  <dc:subject/>
  <dc:title>Las Fallas</dc:title>
</cp:coreProperties>
</file>